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E402-9703-4777-8A77-48DD1C60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E76-120E-413E-AA90-C1F69F9AE8BD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F24-A13B-4999-8DE7-4CB6FF20899E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0347-EB4A-4E2A-A16B-7D34DBFD0851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9CE7-C375-44EF-917A-780EC2D6B11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918-F031-4A9B-8EDE-F0F7A1EE6BD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FE1-39D7-4DC7-8338-178526A5440C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330-5B45-4E70-B766-E593E685FC9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EDC1-30D2-4D15-879F-EB1DFF76616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3A3-3C71-4EF1-9A88-9BE585B4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8C5-5646-4A3F-B4F5-C05AF54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577-326C-446E-B835-42DA111B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B23-CE4F-4BB8-AE43-EB465358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F107-586D-482A-809B-2CE37620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AACC-56B4-4799-A4AD-9EDF42C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56C6-D784-4B85-99EC-377FA96B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0B5-7C1E-445E-9C76-626804A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AF75-C1F0-485D-A963-CABDE0F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8B0-6A6D-4481-883F-8BBFA5F5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C2ED-604F-44E5-B4A5-01CB0C0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C4E-674B-492E-B7CF-A30A9132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91A6-75AD-4FE7-9BF7-46486B2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D288-0BCE-48F5-879C-D2641F1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1867-51E4-4661-B9E8-6519E8F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01DF-2B74-4282-BD3F-B3B56797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342-8CAB-4CB7-ACF6-B78F33A5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C4B7-406B-4945-A725-F2BB8143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669D-09BE-48E6-8D07-2FE9EABA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98DC-02E0-4315-B5FF-651623F2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2DC7-9FBF-4E0B-9196-1FF01DAD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0C4D-2D13-43AE-A7AA-C2BF1F70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760-B0DC-4C86-9B07-28C48AE6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F24E-1AE7-437B-9E79-F915323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6173-DE3E-44D4-913A-F69712A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D342-4D9F-4B15-82C8-6C2683F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58F4-0ED6-46B0-BA68-49689EBE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C2ED-B2F2-4089-8024-4F13673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8174-1681-4D71-9ADD-18213206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2BD6-1A8C-4CDB-B511-4E255ADE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6CBD-5564-4B83-800E-817BBCF2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CC3C-F619-4C81-829C-66BB9B6D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F37F-4574-4B38-AA23-A274BE7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050-539E-48D8-B0A6-156A21D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8844-0521-4099-B25C-A683D957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23E6-87F8-47AB-9991-4E6F2043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5FD2-CF99-484A-A1C1-84E52C22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DC46-2F5D-4732-84D3-6285C2E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D2F67-0158-40A7-99D0-5AE585F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74BF-6EA7-4FE5-BE4B-E9610BA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9C8D-4EFF-44D4-BDA8-1D63FCAD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0C24-F57E-4E40-AEF0-6FEFD353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E84D-434A-434D-9F68-E2405E25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4C6-084D-4E53-B88D-3235A726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4DC-1782-4572-9701-824BCE2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420-8558-4918-8710-F6A7D598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2E9-933B-4A99-A3E8-423D0F8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C3F-1D31-4262-A371-B017AEA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5B8-0A2A-42F2-9F54-881CA2528C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E31-2835-40D7-B3ED-F16CF7CF0B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70AD-0BA8-4B75-8AE5-1311746940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1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1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3EEA-D20C-414C-9D75-9BD4897F944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wre.com/ctfilter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Chapter 25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Indoor Air Pollution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acteria and molds and mildews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sbest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rmaldehyd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bacc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d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FRs (Brominated Flame Retardants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o’s affected most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you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ol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munosuppres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ronic respiratory disease suffer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ick building syndrom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9" name="Picture 5" descr="warum-krank"/>
          <p:cNvPicPr/>
          <p:nvPr/>
        </p:nvPicPr>
        <p:blipFill>
          <a:blip r:embed="rId1"/>
          <a:stretch/>
        </p:blipFill>
        <p:spPr>
          <a:xfrm>
            <a:off x="5943600" y="1219320"/>
            <a:ext cx="2706840" cy="33512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1295280" y="1554120"/>
            <a:ext cx="27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Caused by unhealthy indoor env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trolling the proble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entil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move sour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alternatives building materi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x heaters and other faulty devi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an air filter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ducate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ducate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3" name="Picture 5" descr="no-smoking"/>
          <p:cNvPicPr/>
          <p:nvPr/>
        </p:nvPicPr>
        <p:blipFill>
          <a:blip r:embed="rId1"/>
          <a:stretch/>
        </p:blipFill>
        <p:spPr>
          <a:xfrm>
            <a:off x="4917960" y="1979640"/>
            <a:ext cx="3649680" cy="3774960"/>
          </a:xfrm>
          <a:prstGeom prst="rect">
            <a:avLst/>
          </a:prstGeom>
          <a:ln w="0">
            <a:noFill/>
          </a:ln>
        </p:spPr>
      </p:pic>
      <p:sp>
        <p:nvSpPr>
          <p:cNvPr id="344" name="Line 7"/>
          <p:cNvSpPr/>
          <p:nvPr/>
        </p:nvSpPr>
        <p:spPr>
          <a:xfrm>
            <a:off x="3352680" y="2362320"/>
            <a:ext cx="1143000" cy="533160"/>
          </a:xfrm>
          <a:prstGeom prst="line">
            <a:avLst/>
          </a:prstGeom>
          <a:ln w="9360">
            <a:solidFill>
              <a:srgbClr val="ecf5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ldehy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ealth Eff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33520" y="9144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rmaldehy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419720" y="9144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bacco Smo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ad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1" name="Picture 5" descr="Radon1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533520" y="2362320"/>
            <a:ext cx="152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er exposure time leads to greater cancer ris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Picture 5" descr="radon risk bar chart"/>
          <p:cNvPicPr/>
          <p:nvPr/>
        </p:nvPicPr>
        <p:blipFill>
          <a:blip r:embed="rId1"/>
          <a:stretch/>
        </p:blipFill>
        <p:spPr>
          <a:xfrm>
            <a:off x="228600" y="10666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"/>
          <p:cNvSpPr/>
          <p:nvPr/>
        </p:nvSpPr>
        <p:spPr>
          <a:xfrm>
            <a:off x="3886200" y="1523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adon leads to more deaths than other risk factors and even worse synergistic effects if one is smoking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exposed to rado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FRs (Brominated Flame Retardents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hy indoor pollutants so concentrated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ntaminated building materi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llutants get trapp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and heating units not maintain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d cannot filter everyth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1" name="Picture 5" descr="ctfil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3716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filters"/>
          <p:cNvPicPr/>
          <p:nvPr/>
        </p:nvPicPr>
        <p:blipFill>
          <a:blip r:embed="rId3"/>
          <a:stretch/>
        </p:blipFill>
        <p:spPr>
          <a:xfrm>
            <a:off x="4191120" y="434340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thways 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ter throug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acks in walls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rough windows and doo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imney effe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nd and pressure differentials in and outside buil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22:47:30Z</dcterms:created>
  <dc:creator>tosborne</dc:creator>
  <dc:description/>
  <dc:language>en-US</dc:language>
  <cp:lastModifiedBy>infosys</cp:lastModifiedBy>
  <dcterms:modified xsi:type="dcterms:W3CDTF">2014-04-02T21:46:37Z</dcterms:modified>
  <cp:revision>15</cp:revision>
  <dc:subject/>
  <dc:title>Indoor Air Pollution</dc:title>
</cp:coreProperties>
</file>